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D111-AD81-4387-BF4D-D0585CFF8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970C-5508-4F43-BF50-879597986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6C4F-B4B5-4633-A409-ABEBD08E3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0E55-E442-453E-B210-DBF8F0922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C62F-DA9A-49F7-9B1F-0E0FF3CBE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A6D1-8A95-4F28-A427-81AE1ED94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F07E-CC63-4C6F-A22B-D0C87A66D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2DB6-C37A-446B-B305-B5AB22E8C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20D8-CA46-4307-A030-96118FADD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FD00-8A99-4C36-93C3-C03DE305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1C17-8496-496F-B2AF-E72F3FE2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2226-77E8-45DF-91A8-C378B3E8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8FD5A-32A2-4385-99D5-8A742148E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 Black"/>
              </a:rPr>
              <a:t>Job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y: Lawson and Came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pothec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druggist that does more than just sell drug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ives medical trea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scribes 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formed surg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als wo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xes broken b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d herbs and plants in medic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 Apothecary needs practice, concentration and a skilled ey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14:22:18Z</dcterms:created>
  <dc:creator> </dc:creator>
  <dc:description/>
  <dc:language>en-US</dc:language>
  <cp:lastModifiedBy> </cp:lastModifiedBy>
  <dcterms:modified xsi:type="dcterms:W3CDTF">2010-05-04T14:28:11Z</dcterms:modified>
  <cp:revision>5</cp:revision>
  <dc:subject/>
  <dc:title>Jobs</dc:title>
</cp:coreProperties>
</file>